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E14F-9B82-4144-80A5-361334144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B8A0-22D4-4D7C-8591-996A3CD1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A966-0733-4443-BD60-93975546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8983-E8BF-40D8-80D8-A884FA0C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D1EA-344D-40D2-A35F-CE95388B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E745-6978-446F-A1EE-EB23777D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416D-EC35-495D-9D60-081B83FA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D2EC-EC79-4ADF-B332-095CB972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58BD-56C9-48D7-9415-8AB38A33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AD42-86A7-497A-BC6C-2C2F340F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802F-B13B-49F0-A57D-26792F63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6F0C-4462-4EC2-BEAA-EB760EAE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49EE-79E4-4899-B59C-6FE4BC5C8BAD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klin Gothic Book"/>
              </a:rPr>
              <a:t>Fotografiere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Franklin Gothic Book"/>
              </a:rPr>
              <a:t> Worauf es ankomm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findlichkeit (ISO/AS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Hohe Empfindlich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ürzere Belichtungs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ber mehr Bildrauschen (Körn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Unterschiede bei Kam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ompakte Digitalkam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leiner Se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Rauscharme Bilder nur bei geringen ISO W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igitale Spiegelreflexkameras (SL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Größerer Se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Rauscharme Bilder auch bei höheren ISO-W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naloge Kameras (35mm Fil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al für Nachtaufnahmen mit sehr hohen ISO-W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h mit Lamellen im Objekti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endenzahl gibt Lichtverhältnis zu Objektiv ohne Blendenvorrichtung 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ößte Bl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h am größ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einste Blendenza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inge Tiefenschär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74280" indent="-134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to wirkt 3-dimensional, bekommt Tie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hr Licht, daher kürzere Belichtungszeit mög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74280" indent="-134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t für Porträts, Hintergrund verschwim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eine Bl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dergrund und Hintergrund scha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74280" indent="-134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dschaftsaufna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4280" indent="-134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k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ndensterne: Lichtquellen in der Nacht sternförmig (Stativ verwenden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ichtungsz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Abhängig v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Bl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Empfindlichkeit (I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Zu lange Belichtungsz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Bild kann verwacke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Bild wird überbelich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Zeitautomatik ( Einstellung „A“ für „Aperture Priority“) stellt Zeit bei manuell gewählter Blende automatisch 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nnwe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Lange Brennwe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leiner Bildausschnitt (Zo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ild kann schneller verwack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ichtstärke nimmt ab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..Belichtungszeit sollte trotzdem kürzer sein (Faustregel: höchstens Kehrwert der Brennwei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nalog –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ensor meist kleiner als Film: kleinerer Bildausschnitt bei gleicher Brennweite. Brennweite muss umgerechnet werden (kleinere Brennweite für gleiches Ergebn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Natürlicher Blickwink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50mm bei Analogkam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k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Billige Objektive Schwachpunkt günstiger SLR-Komplettangebo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Blende, Verzerrungen und Verdunklung (Vignette) am Bild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Lichtstarke Objektive (besonders große Blende) teu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Großer Zoomber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Objektive meist minderwerti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flexib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Fixbrennwe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Qualitativ besser bei gleichem Pr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Umständlicher - mehrere Objektive nöt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 Megapixel-Wahnsin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Viele Megapi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nur mehr Details, wenn das Bild gestochen scharf ist und nicht rausc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Mehr Rezeptoren auf dem Sensor: Höheres Bildraus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Rezeptoren kle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Besser in ein gutes Objektiv investieren und bei der Kamera das Vorgängermodell mit etwas weniger Megapixel günstig erwer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gleich Analog - 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Gebrauchte analoge Spiegelreflexkameras fast geschenk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Grosse Auswahl an Gebrauchtobjektiven. Gut und erschwinglich: lichtstarkes Objektiv mit manuellem Fokus und Fixbrennwe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Weniger Bildrauschen bei vergleichbarer Empfindlich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Prktisch keine Auslöseverzög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Kosten und Zeitaufwand für Filme und Entwickl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 einen Film passen nur wenige Fo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lösung nur durch Optik begren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ändig neue Modelle -&gt; Starker Preisverf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slöseverzögerung (auch das Speichern braucht Ze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Gebrauchte Objektive von Analogkameras nur bedingt geeig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Bildrauschen bei hoher Empfindlich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Bilder sofort verfügbar. Experimentieren leichter mög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Keine zwingenden  laufenden Kosten. Ausarbeitung einzelner Bilder nur bei Bedarf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Bildbearbeitungsfunktionen z.T. bereits in der Kam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8:55:38Z</dcterms:created>
  <dc:creator>Oliver Mochmann</dc:creator>
  <dc:description/>
  <dc:language>en-US</dc:language>
  <cp:lastModifiedBy>Klingenberg</cp:lastModifiedBy>
  <dcterms:modified xsi:type="dcterms:W3CDTF">2011-04-20T19:27:54Z</dcterms:modified>
  <cp:revision>7</cp:revision>
  <dc:subject/>
  <dc:title>Fotografieren  Worauf es ankommt</dc:title>
</cp:coreProperties>
</file>